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BCA-BAC5-4FB9-AB35-16923F70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E8A-FF71-443A-8571-193AFBCE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D00-136E-4335-B01F-58FDFB2A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83F-D9C1-4684-A575-D44CE869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25A-CC05-4AE0-9D8B-EF57516A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C92-D640-4709-AC8F-569D6904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AE2-7C39-429A-9BBA-094608CA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020-BAF3-4C91-B651-ECD75254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00A-DCEB-4EFB-87DB-A3A7E1A9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E94-FB4D-4D3B-AD59-6F9CD41F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41B-6217-4046-825D-FBE17C54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662-B5BE-4F81-A6E2-89741ABA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4884-F469-4EAD-B7B8-ECAA5AB0E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93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243828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 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" y="3505320"/>
            <a:ext cx="182520" cy="182520"/>
            <a:chOff x="457200" y="3505320"/>
            <a:chExt cx="182520" cy="182520"/>
          </a:xfrm>
        </p:grpSpPr>
        <p:sp>
          <p:nvSpPr>
            <p:cNvPr id="44" name=""/>
            <p:cNvSpPr/>
            <p:nvPr/>
          </p:nvSpPr>
          <p:spPr>
            <a:xfrm>
              <a:off x="4572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5400000">
              <a:off x="4914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85800" y="3581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744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19376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34604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9376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270080" y="3504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70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22360" y="358128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164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5960" y="1905120"/>
            <a:ext cx="35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20" y="19051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3240" y="20574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0816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558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5880" y="31240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3676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0816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9240" y="20574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588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281952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6064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60640" y="3581280"/>
            <a:ext cx="3049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56080" y="3581280"/>
            <a:ext cx="3045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60640" y="3276720"/>
            <a:ext cx="3049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56080" y="3276720"/>
            <a:ext cx="3045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416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704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939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939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227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227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462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750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462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462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750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3178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46240" y="236232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228600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31840" y="1371600"/>
            <a:ext cx="7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% 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13716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56280" y="3200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784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495680" y="3505320"/>
            <a:ext cx="182520" cy="182520"/>
            <a:chOff x="4495680" y="3505320"/>
            <a:chExt cx="182520" cy="182520"/>
          </a:xfrm>
        </p:grpSpPr>
        <p:sp>
          <p:nvSpPr>
            <p:cNvPr id="90" name=""/>
            <p:cNvSpPr/>
            <p:nvPr/>
          </p:nvSpPr>
          <p:spPr>
            <a:xfrm>
              <a:off x="449568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5400000">
              <a:off x="452988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4832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6084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322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608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8944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440" y="28954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4000" y="2895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46840" y="4343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82316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97544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23160" y="4419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899480" y="4419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657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943600" y="3505320"/>
            <a:ext cx="182520" cy="182520"/>
            <a:chOff x="5943600" y="3505320"/>
            <a:chExt cx="182520" cy="182520"/>
          </a:xfrm>
        </p:grpSpPr>
        <p:sp>
          <p:nvSpPr>
            <p:cNvPr id="106" name=""/>
            <p:cNvSpPr/>
            <p:nvPr/>
          </p:nvSpPr>
          <p:spPr>
            <a:xfrm>
              <a:off x="59436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59778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9588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0876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89640" y="3581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908040" y="4419720"/>
            <a:ext cx="742320" cy="765360"/>
            <a:chOff x="6908040" y="4419720"/>
            <a:chExt cx="742320" cy="765360"/>
          </a:xfrm>
        </p:grpSpPr>
        <p:sp>
          <p:nvSpPr>
            <p:cNvPr id="112" name=""/>
            <p:cNvSpPr/>
            <p:nvPr/>
          </p:nvSpPr>
          <p:spPr>
            <a:xfrm>
              <a:off x="7230960" y="44197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/>
            <p:nvPr/>
          </p:nvCxnSpPr>
          <p:spPr>
            <a:xfrm flipH="1">
              <a:off x="6908040" y="46022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" name=""/>
            <p:cNvCxnSpPr/>
            <p:nvPr/>
          </p:nvCxnSpPr>
          <p:spPr>
            <a:xfrm flipH="1" flipV="1">
              <a:off x="7321680" y="46108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/>
            <p:nvPr/>
          </p:nvCxnSpPr>
          <p:spPr>
            <a:xfrm flipH="1" flipV="1">
              <a:off x="7321680" y="46868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6" name=""/>
            <p:cNvCxnSpPr/>
            <p:nvPr/>
          </p:nvCxnSpPr>
          <p:spPr>
            <a:xfrm flipH="1" flipV="1">
              <a:off x="7321680" y="47682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7" name=""/>
            <p:cNvCxnSpPr/>
            <p:nvPr/>
          </p:nvCxnSpPr>
          <p:spPr>
            <a:xfrm flipH="1" flipV="1">
              <a:off x="7321680" y="4836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/>
            <p:nvPr/>
          </p:nvCxnSpPr>
          <p:spPr>
            <a:xfrm flipH="1" flipV="1">
              <a:off x="7321680" y="4917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/>
            <p:nvPr/>
          </p:nvCxnSpPr>
          <p:spPr>
            <a:xfrm flipH="1">
              <a:off x="6908040" y="4678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/>
            <p:nvPr/>
          </p:nvCxnSpPr>
          <p:spPr>
            <a:xfrm flipH="1">
              <a:off x="6908040" y="4759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"/>
            <p:cNvCxnSpPr/>
            <p:nvPr/>
          </p:nvCxnSpPr>
          <p:spPr>
            <a:xfrm flipH="1">
              <a:off x="6908400" y="4836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"/>
            <p:cNvCxnSpPr/>
            <p:nvPr/>
          </p:nvCxnSpPr>
          <p:spPr>
            <a:xfrm flipH="1">
              <a:off x="6908400" y="4917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"/>
            <p:cNvCxnSpPr/>
            <p:nvPr/>
          </p:nvCxnSpPr>
          <p:spPr>
            <a:xfrm>
              <a:off x="6909120" y="51843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"/>
            <p:cNvCxnSpPr/>
            <p:nvPr/>
          </p:nvCxnSpPr>
          <p:spPr>
            <a:xfrm>
              <a:off x="690840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/>
            <p:nvPr/>
          </p:nvCxnSpPr>
          <p:spPr>
            <a:xfrm>
              <a:off x="764928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6" name=""/>
          <p:cNvSpPr/>
          <p:nvPr/>
        </p:nvSpPr>
        <p:spPr>
          <a:xfrm flipH="1">
            <a:off x="6299280" y="4495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95080" y="4267080"/>
            <a:ext cx="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 - G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3080" y="25146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556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348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00880" y="297180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4038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39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104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8390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44956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86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30556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32120" y="37339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34800" y="495288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84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98240" y="41148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7720" y="419112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09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4495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8580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81680" y="3504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48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1148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6576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9120" y="51814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3716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800100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38862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99036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88620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3581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377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80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809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32448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47676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38098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324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4038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4952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4952880"/>
            <a:ext cx="759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5029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53280" y="4648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152280" y="18280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5410080" y="281880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8381880" y="3656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2860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48640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4582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600200"/>
            <a:ext cx="15264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429000"/>
            <a:ext cx="15264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590920"/>
            <a:ext cx="15264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28600" y="1523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523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447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3276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486400" y="2514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86728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2438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8390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8458200" y="3352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452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038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42864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40384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360" y="4114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3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27672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59056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352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3772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26672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9568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4956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10552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80024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2514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27636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276720" y="3123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3276720"/>
            <a:ext cx="2192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26668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4284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26668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590560" y="2743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0948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18148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899172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53452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01992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6320" y="2209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2824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20" y="19051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640" y="228600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33526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3276720"/>
            <a:ext cx="182520" cy="182520"/>
            <a:chOff x="457200" y="3276720"/>
            <a:chExt cx="182520" cy="182520"/>
          </a:xfrm>
        </p:grpSpPr>
        <p:sp>
          <p:nvSpPr>
            <p:cNvPr id="271" name=""/>
            <p:cNvSpPr/>
            <p:nvPr/>
          </p:nvSpPr>
          <p:spPr>
            <a:xfrm>
              <a:off x="45720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49140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04148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11744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27008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17440" y="3276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19376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7600" y="335268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16002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4760" y="160020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52480" y="2590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26668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70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07280" y="2590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590920" y="3276720"/>
            <a:ext cx="182520" cy="182520"/>
            <a:chOff x="2590920" y="3276720"/>
            <a:chExt cx="182520" cy="182520"/>
          </a:xfrm>
        </p:grpSpPr>
        <p:sp>
          <p:nvSpPr>
            <p:cNvPr id="294" name=""/>
            <p:cNvSpPr/>
            <p:nvPr/>
          </p:nvSpPr>
          <p:spPr>
            <a:xfrm>
              <a:off x="259092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262512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514600" y="33526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1828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13716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09680" y="1828800"/>
            <a:ext cx="685800" cy="38088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38280" y="2133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4382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146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5909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2133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8954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0481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2004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4280" y="1066680"/>
            <a:ext cx="6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 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4044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3392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9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352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8836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092120" y="121932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3352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81280" y="3276720"/>
            <a:ext cx="182520" cy="182520"/>
            <a:chOff x="3581280" y="3276720"/>
            <a:chExt cx="182520" cy="182520"/>
          </a:xfrm>
        </p:grpSpPr>
        <p:sp>
          <p:nvSpPr>
            <p:cNvPr id="332" name=""/>
            <p:cNvSpPr/>
            <p:nvPr/>
          </p:nvSpPr>
          <p:spPr>
            <a:xfrm>
              <a:off x="358128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361548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73392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266720" y="3429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266720" y="3276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3276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267080" y="3352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343400" y="22096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09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29718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00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49532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3429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10516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83080" y="2502000"/>
            <a:ext cx="62244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05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76920" y="1600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952880" y="167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029200" y="1066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3116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88000" y="304812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79080" y="28954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73440" y="14479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30640" y="19051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33526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292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80024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267080" y="4114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8720" y="38862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12040" y="419112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4952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956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51814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50480" y="51055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9920" y="5486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552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9552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5880" y="5562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095880" y="5638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172200" y="34286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19920" y="3124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0955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0955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32004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095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324480" y="3200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244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172200" y="23623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0280" y="2133720"/>
            <a:ext cx="914400" cy="19047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904760"/>
              <a:gd name="textAreaBottom" fmla="*/ 1860120 h 1904760"/>
            </a:gdLst>
            <a:ahLst/>
            <a:rect l="textAreaLeft" t="textAreaTop" r="textAreaRight" b="textAreaBottom"/>
            <a:pathLst>
              <a:path w="21600" h="44985">
                <a:moveTo>
                  <a:pt x="3600" y="0"/>
                </a:moveTo>
                <a:arcTo wR="3600" hR="3600" stAng="16200000" swAng="-5400000"/>
                <a:lnTo>
                  <a:pt x="0" y="41385"/>
                </a:lnTo>
                <a:arcTo wR="3600" hR="3600" stAng="10800000" swAng="-5400000"/>
                <a:lnTo>
                  <a:pt x="18000" y="449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2362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86600" y="2438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08660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16256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2388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915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4674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201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6960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86600" y="281952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0866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716256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7238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3915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4674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201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6960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6600" y="32004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0866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7162560" y="3276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238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915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4674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201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6960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581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0866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716256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7238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91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467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201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76960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36576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34800" y="36576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9246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79246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79246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79246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40320" y="17524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246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8381880" y="2590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915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924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3320" y="388620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83818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05920" y="2133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3818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534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84582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838188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6104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3452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838188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55080" y="4267080"/>
            <a:ext cx="68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X-1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07732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4038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9152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4572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45960" y="4495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67480" y="4724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6324120" y="55627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696080" y="5562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784836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777240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9246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77724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01000" y="5715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4520" y="5181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8390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6104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8390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6868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830592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120" y="48769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0720" y="601992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45760" y="57913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640840" y="297180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36680" y="22860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22280" y="586728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06240" y="31240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7160" y="182880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69343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934320" y="57150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440080" y="22860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2952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365760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91404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365760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761760" y="37339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76176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7621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3962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5334120" y="2514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334120" y="27432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9525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029200" y="2666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952880" y="259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6477120" y="32763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553080" y="312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77120" y="30481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6553080" y="2971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17220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248520" y="2819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05920" y="167652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38188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610480" y="16765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96080" y="5181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001000" y="51814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7732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1532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07732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686800" y="1752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763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686800" y="1828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6200000">
            <a:off x="4038480" y="38098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11480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38480" y="3657600"/>
            <a:ext cx="15264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114800" y="3581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1480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956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34340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228600" y="18284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0492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" y="1676520"/>
            <a:ext cx="15228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6200000">
            <a:off x="8305920" y="4800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83818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305920" y="4648320"/>
            <a:ext cx="15228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04920" y="160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83818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38188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8390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09480" y="1599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04920" y="1600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1447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68680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1055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41008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784836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773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34120" y="1676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001000" y="1981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259092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04776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971800" y="2590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2895480" y="2666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9548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6200000">
            <a:off x="3581280" y="26668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27432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28954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97144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16200000">
            <a:off x="8153280" y="2513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8229600" y="2514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153280" y="24382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8153280" y="2895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8229600" y="2895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153280" y="28195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8153280" y="327600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8229600" y="32763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153280" y="320040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8153280" y="3656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2960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153280" y="35812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0556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830556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830556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055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64832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89917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68580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78560" y="60958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3716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335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8380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380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1371600" y="2742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666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4952880" y="1295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52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52880" y="1295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502920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5288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02920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1814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543800" y="1905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76201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69608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761976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620120" y="1752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620120" y="1600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696080" y="1752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6201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96080" y="182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05520" y="1523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81480" y="1600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400000">
            <a:off x="5257080" y="1523880"/>
            <a:ext cx="15264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772400" y="1828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848720" y="1905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5400000">
            <a:off x="7924680" y="1828440"/>
            <a:ext cx="152280" cy="152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822960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22960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8534520" y="2514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4582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388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23888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08660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4340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5029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8076960" y="3581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077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8076960" y="3200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7732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8076960" y="2819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0773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8076960" y="2438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0773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762120" y="4343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066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380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666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5335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59720" y="4038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31120" y="43434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6320" y="6858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6320" y="380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520" y="380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88320" y="6858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0880" y="838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22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22860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0666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380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0666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3808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4572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07440" y="20574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31120" y="2286000"/>
            <a:ext cx="531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2120" y="2971800"/>
            <a:ext cx="62208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137124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37160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66680" y="3124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06668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9072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3429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990720" y="5410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90720" y="54864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3581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66680" y="5638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0020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167652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8288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76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752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182880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600200" y="5638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167652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182880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67652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75248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1828800" y="594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6765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905120" y="3733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905120" y="57913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16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11640" y="5410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526040" y="33526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526040" y="54100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666880" y="3886200"/>
            <a:ext cx="12193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27672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43200" y="51814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76720" y="51814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276720" y="47242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47242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243828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382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4382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641680" y="5321160"/>
            <a:ext cx="1244520" cy="101880"/>
          </a:xfrm>
          <a:custGeom>
            <a:avLst/>
            <a:gdLst/>
            <a:ahLst/>
            <a:rect l="l" t="t" r="r" b="b"/>
            <a:pathLst>
              <a:path w="784" h="64">
                <a:moveTo>
                  <a:pt x="784" y="8"/>
                </a:moveTo>
                <a:cubicBezTo>
                  <a:pt x="504" y="4"/>
                  <a:pt x="224" y="0"/>
                  <a:pt x="112" y="8"/>
                </a:cubicBezTo>
                <a:cubicBezTo>
                  <a:pt x="0" y="16"/>
                  <a:pt x="0" y="48"/>
                  <a:pt x="112" y="56"/>
                </a:cubicBezTo>
                <a:cubicBezTo>
                  <a:pt x="224" y="64"/>
                  <a:pt x="672" y="56"/>
                  <a:pt x="784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88584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6668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6668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43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36448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91800" y="2362320"/>
            <a:ext cx="5691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1240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526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526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29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886920" y="4114800"/>
            <a:ext cx="4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43116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200400" y="5638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200400" y="5715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886200" y="5943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2670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8098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19112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9528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9528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1055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354840" y="5715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886920" y="62485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91320" y="30492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0958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019920" y="13716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958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360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0195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60195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019920" y="19810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6019920" y="2057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62481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248520" y="1981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510516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1055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485680" y="3962520"/>
            <a:ext cx="742320" cy="765360"/>
            <a:chOff x="5485680" y="3962520"/>
            <a:chExt cx="742320" cy="765360"/>
          </a:xfrm>
        </p:grpSpPr>
        <p:sp>
          <p:nvSpPr>
            <p:cNvPr id="749" name=""/>
            <p:cNvSpPr/>
            <p:nvPr/>
          </p:nvSpPr>
          <p:spPr>
            <a:xfrm>
              <a:off x="58086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0" name=""/>
            <p:cNvCxnSpPr/>
            <p:nvPr/>
          </p:nvCxnSpPr>
          <p:spPr>
            <a:xfrm flipH="1">
              <a:off x="54856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1" name=""/>
            <p:cNvCxnSpPr/>
            <p:nvPr/>
          </p:nvCxnSpPr>
          <p:spPr>
            <a:xfrm flipH="1" flipV="1">
              <a:off x="58993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2" name=""/>
            <p:cNvCxnSpPr/>
            <p:nvPr/>
          </p:nvCxnSpPr>
          <p:spPr>
            <a:xfrm flipH="1" flipV="1">
              <a:off x="58993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3" name=""/>
            <p:cNvCxnSpPr/>
            <p:nvPr/>
          </p:nvCxnSpPr>
          <p:spPr>
            <a:xfrm flipH="1" flipV="1">
              <a:off x="58993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4" name=""/>
            <p:cNvCxnSpPr/>
            <p:nvPr/>
          </p:nvCxnSpPr>
          <p:spPr>
            <a:xfrm flipH="1" flipV="1">
              <a:off x="58993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5" name=""/>
            <p:cNvCxnSpPr/>
            <p:nvPr/>
          </p:nvCxnSpPr>
          <p:spPr>
            <a:xfrm flipH="1" flipV="1">
              <a:off x="58993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6" name=""/>
            <p:cNvCxnSpPr/>
            <p:nvPr/>
          </p:nvCxnSpPr>
          <p:spPr>
            <a:xfrm flipH="1">
              <a:off x="54856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"/>
            <p:cNvCxnSpPr/>
            <p:nvPr/>
          </p:nvCxnSpPr>
          <p:spPr>
            <a:xfrm flipH="1">
              <a:off x="54856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"/>
            <p:cNvCxnSpPr/>
            <p:nvPr/>
          </p:nvCxnSpPr>
          <p:spPr>
            <a:xfrm flipH="1">
              <a:off x="54860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9" name=""/>
            <p:cNvCxnSpPr/>
            <p:nvPr/>
          </p:nvCxnSpPr>
          <p:spPr>
            <a:xfrm flipH="1">
              <a:off x="54860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0" name=""/>
            <p:cNvCxnSpPr/>
            <p:nvPr/>
          </p:nvCxnSpPr>
          <p:spPr>
            <a:xfrm>
              <a:off x="54867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1" name=""/>
            <p:cNvCxnSpPr/>
            <p:nvPr/>
          </p:nvCxnSpPr>
          <p:spPr>
            <a:xfrm>
              <a:off x="54860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2" name=""/>
            <p:cNvCxnSpPr/>
            <p:nvPr/>
          </p:nvCxnSpPr>
          <p:spPr>
            <a:xfrm>
              <a:off x="62269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63" name=""/>
          <p:cNvGrpSpPr/>
          <p:nvPr/>
        </p:nvGrpSpPr>
        <p:grpSpPr>
          <a:xfrm>
            <a:off x="7314480" y="3962520"/>
            <a:ext cx="742320" cy="765360"/>
            <a:chOff x="7314480" y="3962520"/>
            <a:chExt cx="742320" cy="765360"/>
          </a:xfrm>
        </p:grpSpPr>
        <p:sp>
          <p:nvSpPr>
            <p:cNvPr id="764" name=""/>
            <p:cNvSpPr/>
            <p:nvPr/>
          </p:nvSpPr>
          <p:spPr>
            <a:xfrm>
              <a:off x="76374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5" name=""/>
            <p:cNvCxnSpPr/>
            <p:nvPr/>
          </p:nvCxnSpPr>
          <p:spPr>
            <a:xfrm flipH="1">
              <a:off x="73144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6" name=""/>
            <p:cNvCxnSpPr/>
            <p:nvPr/>
          </p:nvCxnSpPr>
          <p:spPr>
            <a:xfrm flipH="1" flipV="1">
              <a:off x="77281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7" name=""/>
            <p:cNvCxnSpPr/>
            <p:nvPr/>
          </p:nvCxnSpPr>
          <p:spPr>
            <a:xfrm flipH="1" flipV="1">
              <a:off x="77281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8" name=""/>
            <p:cNvCxnSpPr/>
            <p:nvPr/>
          </p:nvCxnSpPr>
          <p:spPr>
            <a:xfrm flipH="1" flipV="1">
              <a:off x="77281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9" name=""/>
            <p:cNvCxnSpPr/>
            <p:nvPr/>
          </p:nvCxnSpPr>
          <p:spPr>
            <a:xfrm flipH="1" flipV="1">
              <a:off x="77281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0" name=""/>
            <p:cNvCxnSpPr/>
            <p:nvPr/>
          </p:nvCxnSpPr>
          <p:spPr>
            <a:xfrm flipH="1" flipV="1">
              <a:off x="77281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1" name=""/>
            <p:cNvCxnSpPr/>
            <p:nvPr/>
          </p:nvCxnSpPr>
          <p:spPr>
            <a:xfrm flipH="1">
              <a:off x="73144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2" name=""/>
            <p:cNvCxnSpPr/>
            <p:nvPr/>
          </p:nvCxnSpPr>
          <p:spPr>
            <a:xfrm flipH="1">
              <a:off x="73144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3" name=""/>
            <p:cNvCxnSpPr/>
            <p:nvPr/>
          </p:nvCxnSpPr>
          <p:spPr>
            <a:xfrm flipH="1">
              <a:off x="73148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4" name=""/>
            <p:cNvCxnSpPr/>
            <p:nvPr/>
          </p:nvCxnSpPr>
          <p:spPr>
            <a:xfrm flipH="1">
              <a:off x="73148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5" name=""/>
            <p:cNvCxnSpPr/>
            <p:nvPr/>
          </p:nvCxnSpPr>
          <p:spPr>
            <a:xfrm>
              <a:off x="73155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6" name=""/>
            <p:cNvCxnSpPr/>
            <p:nvPr/>
          </p:nvCxnSpPr>
          <p:spPr>
            <a:xfrm>
              <a:off x="73148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7" name=""/>
            <p:cNvCxnSpPr/>
            <p:nvPr/>
          </p:nvCxnSpPr>
          <p:spPr>
            <a:xfrm>
              <a:off x="80557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78" name=""/>
          <p:cNvSpPr/>
          <p:nvPr/>
        </p:nvSpPr>
        <p:spPr>
          <a:xfrm>
            <a:off x="67816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9343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9343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5257800" y="3581280"/>
            <a:ext cx="182520" cy="182520"/>
            <a:chOff x="5257800" y="3581280"/>
            <a:chExt cx="182520" cy="182520"/>
          </a:xfrm>
        </p:grpSpPr>
        <p:sp>
          <p:nvSpPr>
            <p:cNvPr id="784" name=""/>
            <p:cNvSpPr/>
            <p:nvPr/>
          </p:nvSpPr>
          <p:spPr>
            <a:xfrm>
              <a:off x="52578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5400000">
              <a:off x="52920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51055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4100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343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8672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6324480" y="3200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32448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9343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7086600" y="3581280"/>
            <a:ext cx="182520" cy="182520"/>
            <a:chOff x="7086600" y="3581280"/>
            <a:chExt cx="182520" cy="182520"/>
          </a:xfrm>
        </p:grpSpPr>
        <p:sp>
          <p:nvSpPr>
            <p:cNvPr id="797" name=""/>
            <p:cNvSpPr/>
            <p:nvPr/>
          </p:nvSpPr>
          <p:spPr>
            <a:xfrm>
              <a:off x="70866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5400000">
              <a:off x="71208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69343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2388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6960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03320" y="38088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488560" y="19051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03136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250680" y="12952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10768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93648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6960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07912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6781320" y="4038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4700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6412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734280" y="236232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781680" y="40384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391520" y="5943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46748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762012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467480" y="6019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7543800" y="60195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7620120" y="6248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46748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81680" y="6095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696080" y="60958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220240" y="5638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5248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2962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5248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3725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799164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851240" y="53341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8603640" y="518148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17360" y="57150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2578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0866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486400" y="685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952880" y="457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425120" y="54144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08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838080" y="1600200"/>
            <a:ext cx="182520" cy="182520"/>
            <a:chOff x="838080" y="1600200"/>
            <a:chExt cx="182520" cy="182520"/>
          </a:xfrm>
        </p:grpSpPr>
        <p:sp>
          <p:nvSpPr>
            <p:cNvPr id="850" name=""/>
            <p:cNvSpPr/>
            <p:nvPr/>
          </p:nvSpPr>
          <p:spPr>
            <a:xfrm>
              <a:off x="838080" y="16002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5400000">
              <a:off x="872280" y="16264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990720" y="16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35680" y="1447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600200" y="61722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676520" y="624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05120" y="617220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981080" y="6248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20574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600200" y="4114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6765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905120" y="411480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981080" y="4191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16200000">
            <a:off x="1600200" y="29714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6765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600200" y="32004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rot="16200000">
            <a:off x="3962520" y="53337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03848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62520" y="55627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03848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5812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3581280" y="5486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67652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129492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1295280" y="312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rot="16200000">
            <a:off x="456840" y="19810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533520" y="1904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57200" y="1828800"/>
            <a:ext cx="15228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09480" y="1905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9907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rot="16200000">
            <a:off x="533520" y="39621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60948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3520" y="3809880"/>
            <a:ext cx="152280" cy="152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rot="16200000">
            <a:off x="152280" y="30420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28600" y="228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52280" y="152280"/>
            <a:ext cx="152640" cy="152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rot="16200000">
            <a:off x="8001000" y="52574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80773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001000" y="5105520"/>
            <a:ext cx="152280" cy="152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04920" y="228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609480" y="228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853452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1532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81080" y="5943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98108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65760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21932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38080" y="1828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152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381880" y="5029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391520" y="6400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46748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696080" y="640080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772400" y="6477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7848720" y="6095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772400" y="6172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rot="16200000">
            <a:off x="6477120" y="19047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5530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209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553080" y="2286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60958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72200" y="2209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4800600" y="1447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800600" y="1447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95288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rot="16200000">
            <a:off x="1295280" y="3656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3716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295280" y="39625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rot="16200000">
            <a:off x="1295280" y="57142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1371600" y="556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95280" y="548640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3716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37160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37160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37160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52388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47920" y="4724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rot="16200000">
            <a:off x="5334120" y="2514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541008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334120" y="22860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4100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480024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rot="16200000">
            <a:off x="6400800" y="2514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400800" y="28195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952880" y="2057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251424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2514600" y="3429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5146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36232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74320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304812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28954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9548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97180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320004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320040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2004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2408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14600" y="4419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0481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895480" y="4267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048120" y="4952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048120" y="579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429000" y="4114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895480" y="5486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68580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37160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219320" y="419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861048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358128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098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38095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812400" y="36576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rot="16200000">
            <a:off x="3962520" y="35049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4038480" y="3428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962520" y="3352680"/>
            <a:ext cx="152280" cy="152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7339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7339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65760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rot="16200000">
            <a:off x="3504960" y="60958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581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505320" y="63244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581280" y="6400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3047760" y="6477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895480" y="6019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91440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685800" y="1371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1219320" y="1371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1430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14264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218960" y="40384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1219320" y="3504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59:34Z</dcterms:created>
  <dc:creator>Travis</dc:creator>
  <dc:description/>
  <dc:language>en-US</dc:language>
  <cp:lastModifiedBy>Travis</cp:lastModifiedBy>
  <dcterms:modified xsi:type="dcterms:W3CDTF">2010-04-01T00:43:44Z</dcterms:modified>
  <cp:revision>24</cp:revision>
  <dc:subject/>
  <dc:title>Slide 1</dc:title>
</cp:coreProperties>
</file>